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11080"/>
            <a:ext cx="807696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67840"/>
            <a:ext cx="807696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11080"/>
            <a:ext cx="394128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711080"/>
            <a:ext cx="394128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67840"/>
            <a:ext cx="394128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867840"/>
            <a:ext cx="394128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11080"/>
            <a:ext cx="260064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711080"/>
            <a:ext cx="260064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711080"/>
            <a:ext cx="260064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67840"/>
            <a:ext cx="260064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867840"/>
            <a:ext cx="260064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867840"/>
            <a:ext cx="260064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11080"/>
            <a:ext cx="807696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11080"/>
            <a:ext cx="8076960" cy="412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11080"/>
            <a:ext cx="3941280" cy="412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711080"/>
            <a:ext cx="3941280" cy="412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11080"/>
            <a:ext cx="394128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711080"/>
            <a:ext cx="3941280" cy="412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67840"/>
            <a:ext cx="394128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11080"/>
            <a:ext cx="3941280" cy="412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711080"/>
            <a:ext cx="394128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867840"/>
            <a:ext cx="394128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11080"/>
            <a:ext cx="394128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711080"/>
            <a:ext cx="394128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67840"/>
            <a:ext cx="8076960" cy="196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6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57960" y="5472000"/>
            <a:ext cx="106668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124" y="859"/>
                </a:moveTo>
                <a:lnTo>
                  <a:pt x="84" y="848"/>
                </a:lnTo>
                <a:lnTo>
                  <a:pt x="47" y="825"/>
                </a:lnTo>
                <a:lnTo>
                  <a:pt x="18" y="791"/>
                </a:lnTo>
                <a:lnTo>
                  <a:pt x="0" y="748"/>
                </a:lnTo>
                <a:lnTo>
                  <a:pt x="1" y="662"/>
                </a:lnTo>
                <a:lnTo>
                  <a:pt x="18" y="583"/>
                </a:lnTo>
                <a:lnTo>
                  <a:pt x="50" y="508"/>
                </a:lnTo>
                <a:lnTo>
                  <a:pt x="94" y="437"/>
                </a:lnTo>
                <a:lnTo>
                  <a:pt x="148" y="370"/>
                </a:lnTo>
                <a:lnTo>
                  <a:pt x="205" y="310"/>
                </a:lnTo>
                <a:lnTo>
                  <a:pt x="325" y="209"/>
                </a:lnTo>
                <a:lnTo>
                  <a:pt x="671" y="0"/>
                </a:lnTo>
                <a:lnTo>
                  <a:pt x="665" y="89"/>
                </a:lnTo>
                <a:lnTo>
                  <a:pt x="648" y="182"/>
                </a:lnTo>
                <a:lnTo>
                  <a:pt x="624" y="280"/>
                </a:lnTo>
                <a:lnTo>
                  <a:pt x="592" y="377"/>
                </a:lnTo>
                <a:lnTo>
                  <a:pt x="555" y="474"/>
                </a:lnTo>
                <a:lnTo>
                  <a:pt x="510" y="566"/>
                </a:lnTo>
                <a:lnTo>
                  <a:pt x="456" y="654"/>
                </a:lnTo>
                <a:lnTo>
                  <a:pt x="397" y="731"/>
                </a:lnTo>
                <a:lnTo>
                  <a:pt x="343" y="778"/>
                </a:lnTo>
                <a:lnTo>
                  <a:pt x="279" y="823"/>
                </a:lnTo>
                <a:lnTo>
                  <a:pt x="246" y="842"/>
                </a:lnTo>
                <a:lnTo>
                  <a:pt x="209" y="855"/>
                </a:lnTo>
                <a:lnTo>
                  <a:pt x="170" y="863"/>
                </a:lnTo>
                <a:lnTo>
                  <a:pt x="128" y="859"/>
                </a:lnTo>
                <a:lnTo>
                  <a:pt x="124" y="85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435720" y="4691160"/>
            <a:ext cx="1566720" cy="2146320"/>
          </a:xfrm>
          <a:custGeom>
            <a:avLst/>
            <a:gdLst/>
            <a:ahLst/>
            <a:rect l="l" t="t" r="r" b="b"/>
            <a:pathLst>
              <a:path w="987" h="1352">
                <a:moveTo>
                  <a:pt x="0" y="1351"/>
                </a:moveTo>
                <a:lnTo>
                  <a:pt x="44" y="1303"/>
                </a:lnTo>
                <a:lnTo>
                  <a:pt x="82" y="1246"/>
                </a:lnTo>
                <a:lnTo>
                  <a:pt x="145" y="1127"/>
                </a:lnTo>
                <a:lnTo>
                  <a:pt x="192" y="1001"/>
                </a:lnTo>
                <a:lnTo>
                  <a:pt x="227" y="871"/>
                </a:lnTo>
                <a:lnTo>
                  <a:pt x="252" y="740"/>
                </a:lnTo>
                <a:lnTo>
                  <a:pt x="273" y="609"/>
                </a:lnTo>
                <a:lnTo>
                  <a:pt x="313" y="359"/>
                </a:lnTo>
                <a:lnTo>
                  <a:pt x="941" y="0"/>
                </a:lnTo>
                <a:lnTo>
                  <a:pt x="963" y="22"/>
                </a:lnTo>
                <a:lnTo>
                  <a:pt x="976" y="34"/>
                </a:lnTo>
                <a:lnTo>
                  <a:pt x="986" y="50"/>
                </a:lnTo>
                <a:lnTo>
                  <a:pt x="929" y="84"/>
                </a:lnTo>
                <a:lnTo>
                  <a:pt x="872" y="124"/>
                </a:lnTo>
                <a:lnTo>
                  <a:pt x="766" y="218"/>
                </a:lnTo>
                <a:lnTo>
                  <a:pt x="675" y="326"/>
                </a:lnTo>
                <a:lnTo>
                  <a:pt x="598" y="446"/>
                </a:lnTo>
                <a:lnTo>
                  <a:pt x="542" y="577"/>
                </a:lnTo>
                <a:lnTo>
                  <a:pt x="507" y="713"/>
                </a:lnTo>
                <a:lnTo>
                  <a:pt x="498" y="856"/>
                </a:lnTo>
                <a:lnTo>
                  <a:pt x="517" y="1000"/>
                </a:lnTo>
                <a:lnTo>
                  <a:pt x="537" y="1092"/>
                </a:lnTo>
                <a:lnTo>
                  <a:pt x="577" y="1184"/>
                </a:lnTo>
                <a:lnTo>
                  <a:pt x="668" y="1351"/>
                </a:lnTo>
                <a:lnTo>
                  <a:pt x="0" y="135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28080" y="3370320"/>
            <a:ext cx="500040" cy="752400"/>
          </a:xfrm>
          <a:custGeom>
            <a:avLst/>
            <a:gdLst/>
            <a:ahLst/>
            <a:rect l="l" t="t" r="r" b="b"/>
            <a:pathLst>
              <a:path w="315" h="474">
                <a:moveTo>
                  <a:pt x="0" y="473"/>
                </a:moveTo>
                <a:lnTo>
                  <a:pt x="3" y="411"/>
                </a:lnTo>
                <a:lnTo>
                  <a:pt x="13" y="346"/>
                </a:lnTo>
                <a:lnTo>
                  <a:pt x="55" y="216"/>
                </a:lnTo>
                <a:lnTo>
                  <a:pt x="124" y="99"/>
                </a:lnTo>
                <a:lnTo>
                  <a:pt x="166" y="50"/>
                </a:lnTo>
                <a:lnTo>
                  <a:pt x="212" y="10"/>
                </a:lnTo>
                <a:lnTo>
                  <a:pt x="255" y="0"/>
                </a:lnTo>
                <a:lnTo>
                  <a:pt x="279" y="5"/>
                </a:lnTo>
                <a:lnTo>
                  <a:pt x="303" y="17"/>
                </a:lnTo>
                <a:lnTo>
                  <a:pt x="313" y="45"/>
                </a:lnTo>
                <a:lnTo>
                  <a:pt x="314" y="77"/>
                </a:lnTo>
                <a:lnTo>
                  <a:pt x="301" y="139"/>
                </a:lnTo>
                <a:lnTo>
                  <a:pt x="271" y="201"/>
                </a:lnTo>
                <a:lnTo>
                  <a:pt x="235" y="262"/>
                </a:lnTo>
                <a:lnTo>
                  <a:pt x="0" y="47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dd6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11080"/>
            <a:ext cx="8076960" cy="412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 fontScale="99000"/>
          </a:bodyPr>
          <a:p>
            <a:pPr marL="339480" indent="-339480">
              <a:spcBef>
                <a:spcPts val="1301"/>
              </a:spcBef>
              <a:buClr>
                <a:srgbClr val="e3de73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30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3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301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3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3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3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6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569880"/>
            <a:ext cx="6535800" cy="4804200"/>
            <a:chOff x="179280" y="569880"/>
            <a:chExt cx="6535800" cy="4804200"/>
          </a:xfrm>
        </p:grpSpPr>
        <p:grpSp>
          <p:nvGrpSpPr>
            <p:cNvPr id="42" name=""/>
            <p:cNvGrpSpPr/>
            <p:nvPr/>
          </p:nvGrpSpPr>
          <p:grpSpPr>
            <a:xfrm>
              <a:off x="179280" y="1648080"/>
              <a:ext cx="6535800" cy="3726000"/>
              <a:chOff x="179280" y="1648080"/>
              <a:chExt cx="6535800" cy="3726000"/>
            </a:xfrm>
          </p:grpSpPr>
          <p:sp>
            <p:nvSpPr>
              <p:cNvPr id="43" name=""/>
              <p:cNvSpPr/>
              <p:nvPr/>
            </p:nvSpPr>
            <p:spPr>
              <a:xfrm>
                <a:off x="179280" y="1648080"/>
                <a:ext cx="2887560" cy="37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spAutoFit/>
              </a:bodyPr>
              <a:p>
                <a:pPr algn="r">
                  <a:lnSpc>
                    <a:spcPct val="7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200" spc="-1" strike="noStrike">
                    <a:solidFill>
                      <a:srgbClr val="ffffff"/>
                    </a:solidFill>
                    <a:latin typeface="Univers"/>
                  </a:rPr>
                  <a:t>D. Fleischmann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7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200" spc="-1" strike="noStrike">
                    <a:solidFill>
                      <a:srgbClr val="ffffff"/>
                    </a:solidFill>
                    <a:latin typeface="Univers"/>
                  </a:rPr>
                  <a:t>Arnold Köchl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7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200" spc="-1" strike="noStrike">
                    <a:solidFill>
                      <a:srgbClr val="ffffff"/>
                    </a:solidFill>
                    <a:latin typeface="Univers"/>
                  </a:rPr>
                  <a:t>Alexandra La Cruz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200" spc="-1" strike="noStrike">
                    <a:solidFill>
                      <a:srgbClr val="ffffff"/>
                    </a:solidFill>
                    <a:latin typeface="Univers"/>
                  </a:rPr>
                  <a:t>Armin Kanitsar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7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200" spc="-1" strike="noStrike">
                    <a:solidFill>
                      <a:srgbClr val="ffffff"/>
                    </a:solidFill>
                    <a:latin typeface="Univers"/>
                  </a:rPr>
                  <a:t>Eduard Gröller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7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200" spc="-1" strike="noStrike">
                    <a:solidFill>
                      <a:srgbClr val="ffffff"/>
                    </a:solidFill>
                    <a:latin typeface="Univers"/>
                  </a:rPr>
                  <a:t>Matus Straka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2200" spc="-1" strike="noStrike">
                    <a:solidFill>
                      <a:srgbClr val="ffffff"/>
                    </a:solidFill>
                    <a:latin typeface="Univers"/>
                  </a:rPr>
                  <a:t>Milos Sramek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76560" y="1683000"/>
                <a:ext cx="885600" cy="8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6560" y="3043440"/>
                <a:ext cx="842760" cy="8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3800160" y="1776600"/>
                <a:ext cx="284508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ffffff"/>
                    </a:solidFill>
                    <a:latin typeface="Arial"/>
                  </a:rPr>
                  <a:t>Universitätsklinik fü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ffffff"/>
                    </a:solidFill>
                    <a:latin typeface="Arial"/>
                  </a:rPr>
                  <a:t>Radiodiagnosti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ffffff"/>
                    </a:solidFill>
                    <a:latin typeface="Arial"/>
                  </a:rPr>
                  <a:t>Universität Wie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852720" y="3114720"/>
                <a:ext cx="284472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ffffff"/>
                    </a:solidFill>
                    <a:latin typeface="Arial"/>
                  </a:rPr>
                  <a:t>Institut fü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ffffff"/>
                    </a:solidFill>
                    <a:latin typeface="Arial"/>
                  </a:rPr>
                  <a:t>Computergraphi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ffffff"/>
                    </a:solidFill>
                    <a:latin typeface="Arial"/>
                  </a:rPr>
                  <a:t>Technische Universität Wie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66840" y="4307040"/>
                <a:ext cx="919080" cy="95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3870000" y="4459320"/>
                <a:ext cx="284508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ffffff"/>
                    </a:solidFill>
                    <a:latin typeface="Arial"/>
                  </a:rPr>
                  <a:t>Komm. f. wiss. Visualisieru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ffffff"/>
                    </a:solidFill>
                    <a:latin typeface="Arial"/>
                  </a:rPr>
                  <a:t>Österreichische Akadem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1400" spc="-1" strike="noStrike">
                    <a:solidFill>
                      <a:srgbClr val="ffffff"/>
                    </a:solidFill>
                    <a:latin typeface="Arial"/>
                  </a:rPr>
                  <a:t>der Wissenschafte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509480" y="569880"/>
              <a:ext cx="184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947160" y="6218280"/>
            <a:ext cx="52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ffff"/>
                </a:solidFill>
                <a:latin typeface="Times New Roman"/>
              </a:rPr>
              <a:t>Supported by the Austrian Science Fund, P-15217-N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53160" y="115920"/>
            <a:ext cx="2333520" cy="6703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6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160" y="1711440"/>
            <a:ext cx="4483080" cy="3698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182520" bIns="182520" anchor="t">
            <a:normAutofit fontScale="99000"/>
          </a:bodyPr>
          <a:p>
            <a:pPr marL="1225800" indent="0">
              <a:spcBef>
                <a:spcPts val="13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tep 1: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utomated vessel tracking</a:t>
            </a:r>
            <a:r>
              <a:rPr b="0" lang="en-GB" sz="2600" spc="-1" strike="noStrike">
                <a:solidFill>
                  <a:srgbClr val="00ffff"/>
                </a:solidFill>
                <a:latin typeface="Arial"/>
              </a:rPr>
              <a:t>*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225800" indent="0">
              <a:spcBef>
                <a:spcPts val="13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tep 2: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reation of curved planar reformations through ALL arterial segments</a:t>
            </a:r>
            <a:r>
              <a:rPr b="0" lang="en-GB" sz="2600" spc="-1" strike="noStrike">
                <a:solidFill>
                  <a:srgbClr val="00ffff"/>
                </a:solidFill>
                <a:latin typeface="Arial"/>
              </a:rPr>
              <a:t>*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t multiple viewing ang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86520" y="1234800"/>
            <a:ext cx="2323800" cy="5348520"/>
            <a:chOff x="5186520" y="1234800"/>
            <a:chExt cx="2323800" cy="5348520"/>
          </a:xfrm>
        </p:grpSpPr>
        <p:grpSp>
          <p:nvGrpSpPr>
            <p:cNvPr id="55" name=""/>
            <p:cNvGrpSpPr/>
            <p:nvPr/>
          </p:nvGrpSpPr>
          <p:grpSpPr>
            <a:xfrm>
              <a:off x="6352920" y="1234800"/>
              <a:ext cx="151920" cy="152280"/>
              <a:chOff x="6352920" y="1234800"/>
              <a:chExt cx="151920" cy="15228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6428520" y="1234800"/>
                <a:ext cx="0" cy="152280"/>
              </a:xfrm>
              <a:prstGeom prst="line">
                <a:avLst/>
              </a:prstGeom>
              <a:ln w="381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6352920" y="1300320"/>
                <a:ext cx="151920" cy="0"/>
              </a:xfrm>
              <a:prstGeom prst="line">
                <a:avLst/>
              </a:prstGeom>
              <a:ln w="381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186520" y="1239840"/>
              <a:ext cx="2323800" cy="53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flipV="1">
              <a:off x="6428880" y="1234800"/>
              <a:ext cx="0" cy="1522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927400" y="5614560"/>
              <a:ext cx="151920" cy="152280"/>
              <a:chOff x="5927400" y="5614560"/>
              <a:chExt cx="151920" cy="152280"/>
            </a:xfrm>
          </p:grpSpPr>
          <p:sp>
            <p:nvSpPr>
              <p:cNvPr id="61" name=""/>
              <p:cNvSpPr/>
              <p:nvPr/>
            </p:nvSpPr>
            <p:spPr>
              <a:xfrm flipV="1">
                <a:off x="6003000" y="5614560"/>
                <a:ext cx="0" cy="15228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5927400" y="5680080"/>
                <a:ext cx="151920" cy="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079320" y="5582880"/>
              <a:ext cx="152280" cy="152280"/>
              <a:chOff x="6079320" y="5582880"/>
              <a:chExt cx="152280" cy="15228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6155640" y="5582880"/>
                <a:ext cx="0" cy="15228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6079320" y="5648400"/>
                <a:ext cx="152280" cy="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923800" y="6192360"/>
              <a:ext cx="152280" cy="152280"/>
              <a:chOff x="5923800" y="6192360"/>
              <a:chExt cx="152280" cy="152280"/>
            </a:xfrm>
          </p:grpSpPr>
          <p:sp>
            <p:nvSpPr>
              <p:cNvPr id="67" name=""/>
              <p:cNvSpPr/>
              <p:nvPr/>
            </p:nvSpPr>
            <p:spPr>
              <a:xfrm flipV="1">
                <a:off x="6000120" y="6192360"/>
                <a:ext cx="0" cy="15228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5923800" y="6257880"/>
                <a:ext cx="152280" cy="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6716520" y="5622480"/>
              <a:ext cx="151920" cy="152280"/>
              <a:chOff x="6716520" y="5622480"/>
              <a:chExt cx="151920" cy="15228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6792120" y="5622480"/>
                <a:ext cx="0" cy="15228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6716520" y="5688000"/>
                <a:ext cx="151920" cy="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6481440" y="6054480"/>
              <a:ext cx="151920" cy="152280"/>
              <a:chOff x="6481440" y="6054480"/>
              <a:chExt cx="151920" cy="152280"/>
            </a:xfrm>
          </p:grpSpPr>
          <p:sp>
            <p:nvSpPr>
              <p:cNvPr id="73" name=""/>
              <p:cNvSpPr/>
              <p:nvPr/>
            </p:nvSpPr>
            <p:spPr>
              <a:xfrm flipV="1">
                <a:off x="6557040" y="6054480"/>
                <a:ext cx="0" cy="15228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481440" y="6120000"/>
                <a:ext cx="151920" cy="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679440" y="6210000"/>
              <a:ext cx="152280" cy="152280"/>
              <a:chOff x="6679440" y="6210000"/>
              <a:chExt cx="152280" cy="15228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6755760" y="6210000"/>
                <a:ext cx="0" cy="15228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679440" y="6275520"/>
                <a:ext cx="152280" cy="0"/>
              </a:xfrm>
              <a:prstGeom prst="line">
                <a:avLst/>
              </a:prstGeom>
              <a:ln w="38160">
                <a:solidFill>
                  <a:srgbClr val="0254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dd65"/>
                </a:solidFill>
                <a:latin typeface="Arial"/>
              </a:rPr>
              <a:t>Methods: Multi-Path CPR</a:t>
            </a: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36839" t="0" r="44719" b="0"/>
          <a:stretch/>
        </p:blipFill>
        <p:spPr>
          <a:xfrm>
            <a:off x="7738920" y="1158840"/>
            <a:ext cx="1067040" cy="5486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5040" y="5910120"/>
            <a:ext cx="34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ffff"/>
                </a:solidFill>
                <a:latin typeface="Arial"/>
              </a:rPr>
              <a:t>A. Kanitsar, IEEE visualization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5040" y="6264360"/>
            <a:ext cx="34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ffff"/>
                </a:solidFill>
                <a:latin typeface="Arial"/>
              </a:rPr>
              <a:t>A. Kanitsar, IEEE visualization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6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68280" y="1733400"/>
            <a:ext cx="3113280" cy="3673800"/>
            <a:chOff x="368280" y="1733400"/>
            <a:chExt cx="3113280" cy="36738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443320" y="1733400"/>
              <a:ext cx="1038240" cy="36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68280" y="1733400"/>
              <a:ext cx="1038240" cy="36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1406520" y="1733400"/>
              <a:ext cx="1036800" cy="367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5710320" y="1733400"/>
            <a:ext cx="3112920" cy="3673800"/>
            <a:chOff x="5710320" y="1733400"/>
            <a:chExt cx="3112920" cy="367380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7785000" y="1733400"/>
              <a:ext cx="1038240" cy="36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6748560" y="1733400"/>
              <a:ext cx="1036440" cy="36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5710320" y="1733400"/>
              <a:ext cx="1038240" cy="367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7"/>
          <a:srcRect l="35829" t="11011" r="37417" b="4441"/>
          <a:stretch/>
        </p:blipFill>
        <p:spPr>
          <a:xfrm>
            <a:off x="4057560" y="1730520"/>
            <a:ext cx="1103400" cy="368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97880" y="572292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ff00"/>
                </a:solidFill>
                <a:latin typeface="Arial"/>
              </a:rPr>
              <a:t>6 Pat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90800" y="990720"/>
            <a:ext cx="1640160" cy="5775120"/>
            <a:chOff x="3790800" y="990720"/>
            <a:chExt cx="1640160" cy="5775120"/>
          </a:xfrm>
        </p:grpSpPr>
        <p:pic>
          <p:nvPicPr>
            <p:cNvPr id="93" name="" descr=""/>
            <p:cNvPicPr/>
            <p:nvPr/>
          </p:nvPicPr>
          <p:blipFill>
            <a:blip r:embed="rId8"/>
            <a:stretch/>
          </p:blipFill>
          <p:spPr>
            <a:xfrm>
              <a:off x="3803760" y="1004760"/>
              <a:ext cx="1627200" cy="576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3790800" y="990720"/>
              <a:ext cx="1638360" cy="5771880"/>
              <a:chOff x="3790800" y="990720"/>
              <a:chExt cx="1638360" cy="5771880"/>
            </a:xfrm>
          </p:grpSpPr>
          <p:sp>
            <p:nvSpPr>
              <p:cNvPr id="95" name=""/>
              <p:cNvSpPr/>
              <p:nvPr/>
            </p:nvSpPr>
            <p:spPr>
              <a:xfrm flipH="1">
                <a:off x="4971600" y="6134040"/>
                <a:ext cx="43668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3790800" y="990720"/>
                <a:ext cx="1638360" cy="5771880"/>
                <a:chOff x="3790800" y="990720"/>
                <a:chExt cx="1638360" cy="5771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560840" y="1590840"/>
                  <a:ext cx="115920" cy="5162400"/>
                </a:xfrm>
                <a:custGeom>
                  <a:avLst/>
                  <a:gdLst/>
                  <a:ahLst/>
                  <a:rect l="l" t="t" r="r" b="b"/>
                  <a:pathLst>
                    <a:path w="73" h="3252">
                      <a:moveTo>
                        <a:pt x="73" y="0"/>
                      </a:moveTo>
                      <a:cubicBezTo>
                        <a:pt x="64" y="41"/>
                        <a:pt x="55" y="82"/>
                        <a:pt x="49" y="114"/>
                      </a:cubicBezTo>
                      <a:cubicBezTo>
                        <a:pt x="43" y="146"/>
                        <a:pt x="42" y="162"/>
                        <a:pt x="37" y="192"/>
                      </a:cubicBezTo>
                      <a:cubicBezTo>
                        <a:pt x="32" y="222"/>
                        <a:pt x="22" y="258"/>
                        <a:pt x="19" y="294"/>
                      </a:cubicBezTo>
                      <a:cubicBezTo>
                        <a:pt x="16" y="330"/>
                        <a:pt x="20" y="366"/>
                        <a:pt x="19" y="408"/>
                      </a:cubicBezTo>
                      <a:cubicBezTo>
                        <a:pt x="18" y="450"/>
                        <a:pt x="16" y="486"/>
                        <a:pt x="13" y="546"/>
                      </a:cubicBezTo>
                      <a:cubicBezTo>
                        <a:pt x="10" y="606"/>
                        <a:pt x="0" y="699"/>
                        <a:pt x="1" y="768"/>
                      </a:cubicBezTo>
                      <a:cubicBezTo>
                        <a:pt x="2" y="837"/>
                        <a:pt x="15" y="897"/>
                        <a:pt x="19" y="960"/>
                      </a:cubicBezTo>
                      <a:cubicBezTo>
                        <a:pt x="23" y="1023"/>
                        <a:pt x="23" y="1080"/>
                        <a:pt x="25" y="1146"/>
                      </a:cubicBezTo>
                      <a:cubicBezTo>
                        <a:pt x="27" y="1212"/>
                        <a:pt x="28" y="1295"/>
                        <a:pt x="31" y="1356"/>
                      </a:cubicBezTo>
                      <a:cubicBezTo>
                        <a:pt x="34" y="1417"/>
                        <a:pt x="41" y="1468"/>
                        <a:pt x="43" y="1512"/>
                      </a:cubicBezTo>
                      <a:cubicBezTo>
                        <a:pt x="45" y="1556"/>
                        <a:pt x="41" y="1579"/>
                        <a:pt x="43" y="1620"/>
                      </a:cubicBezTo>
                      <a:cubicBezTo>
                        <a:pt x="45" y="1661"/>
                        <a:pt x="54" y="1729"/>
                        <a:pt x="55" y="1758"/>
                      </a:cubicBezTo>
                      <a:cubicBezTo>
                        <a:pt x="56" y="1787"/>
                        <a:pt x="50" y="1761"/>
                        <a:pt x="49" y="1794"/>
                      </a:cubicBezTo>
                      <a:cubicBezTo>
                        <a:pt x="48" y="1827"/>
                        <a:pt x="51" y="1898"/>
                        <a:pt x="49" y="1956"/>
                      </a:cubicBezTo>
                      <a:cubicBezTo>
                        <a:pt x="47" y="2014"/>
                        <a:pt x="37" y="2067"/>
                        <a:pt x="37" y="2142"/>
                      </a:cubicBezTo>
                      <a:cubicBezTo>
                        <a:pt x="37" y="2217"/>
                        <a:pt x="46" y="2221"/>
                        <a:pt x="49" y="2406"/>
                      </a:cubicBezTo>
                      <a:cubicBezTo>
                        <a:pt x="52" y="2591"/>
                        <a:pt x="54" y="3076"/>
                        <a:pt x="55" y="32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90800" y="5857920"/>
                  <a:ext cx="4762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186080" y="4981680"/>
                  <a:ext cx="74880" cy="876240"/>
                </a:xfrm>
                <a:custGeom>
                  <a:avLst/>
                  <a:gdLst/>
                  <a:ahLst/>
                  <a:rect l="l" t="t" r="r" b="b"/>
                  <a:pathLst>
                    <a:path w="47" h="552">
                      <a:moveTo>
                        <a:pt x="9" y="0"/>
                      </a:moveTo>
                      <a:cubicBezTo>
                        <a:pt x="4" y="25"/>
                        <a:pt x="0" y="51"/>
                        <a:pt x="3" y="84"/>
                      </a:cubicBezTo>
                      <a:cubicBezTo>
                        <a:pt x="6" y="117"/>
                        <a:pt x="22" y="157"/>
                        <a:pt x="27" y="198"/>
                      </a:cubicBezTo>
                      <a:cubicBezTo>
                        <a:pt x="32" y="239"/>
                        <a:pt x="30" y="297"/>
                        <a:pt x="33" y="330"/>
                      </a:cubicBezTo>
                      <a:cubicBezTo>
                        <a:pt x="36" y="363"/>
                        <a:pt x="43" y="369"/>
                        <a:pt x="45" y="396"/>
                      </a:cubicBezTo>
                      <a:cubicBezTo>
                        <a:pt x="47" y="423"/>
                        <a:pt x="45" y="466"/>
                        <a:pt x="45" y="492"/>
                      </a:cubicBezTo>
                      <a:cubicBezTo>
                        <a:pt x="45" y="518"/>
                        <a:pt x="45" y="542"/>
                        <a:pt x="45" y="5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90800" y="6048360"/>
                  <a:ext cx="55260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286160" y="5181480"/>
                  <a:ext cx="41400" cy="866880"/>
                </a:xfrm>
                <a:custGeom>
                  <a:avLst/>
                  <a:gdLst/>
                  <a:ahLst/>
                  <a:rect l="l" t="t" r="r" b="b"/>
                  <a:pathLst>
                    <a:path w="26" h="546">
                      <a:moveTo>
                        <a:pt x="0" y="0"/>
                      </a:moveTo>
                      <a:cubicBezTo>
                        <a:pt x="4" y="63"/>
                        <a:pt x="8" y="127"/>
                        <a:pt x="12" y="180"/>
                      </a:cubicBezTo>
                      <a:cubicBezTo>
                        <a:pt x="16" y="233"/>
                        <a:pt x="22" y="275"/>
                        <a:pt x="24" y="318"/>
                      </a:cubicBezTo>
                      <a:cubicBezTo>
                        <a:pt x="26" y="361"/>
                        <a:pt x="24" y="400"/>
                        <a:pt x="24" y="438"/>
                      </a:cubicBezTo>
                      <a:cubicBezTo>
                        <a:pt x="24" y="476"/>
                        <a:pt x="24" y="528"/>
                        <a:pt x="24" y="546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971960" y="5118120"/>
                  <a:ext cx="44640" cy="1025640"/>
                </a:xfrm>
                <a:custGeom>
                  <a:avLst/>
                  <a:gdLst/>
                  <a:ahLst/>
                  <a:rect l="l" t="t" r="r" b="b"/>
                  <a:pathLst>
                    <a:path w="28" h="646">
                      <a:moveTo>
                        <a:pt x="28" y="0"/>
                      </a:moveTo>
                      <a:cubicBezTo>
                        <a:pt x="26" y="28"/>
                        <a:pt x="22" y="117"/>
                        <a:pt x="18" y="172"/>
                      </a:cubicBezTo>
                      <a:cubicBezTo>
                        <a:pt x="14" y="227"/>
                        <a:pt x="7" y="292"/>
                        <a:pt x="6" y="328"/>
                      </a:cubicBezTo>
                      <a:cubicBezTo>
                        <a:pt x="5" y="364"/>
                        <a:pt x="11" y="361"/>
                        <a:pt x="12" y="388"/>
                      </a:cubicBezTo>
                      <a:cubicBezTo>
                        <a:pt x="13" y="415"/>
                        <a:pt x="14" y="447"/>
                        <a:pt x="12" y="490"/>
                      </a:cubicBezTo>
                      <a:cubicBezTo>
                        <a:pt x="10" y="533"/>
                        <a:pt x="5" y="589"/>
                        <a:pt x="0" y="646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037120" y="4933800"/>
                  <a:ext cx="49320" cy="933480"/>
                </a:xfrm>
                <a:custGeom>
                  <a:avLst/>
                  <a:gdLst/>
                  <a:ahLst/>
                  <a:rect l="l" t="t" r="r" b="b"/>
                  <a:pathLst>
                    <a:path w="31" h="588">
                      <a:moveTo>
                        <a:pt x="31" y="0"/>
                      </a:moveTo>
                      <a:cubicBezTo>
                        <a:pt x="26" y="33"/>
                        <a:pt x="21" y="67"/>
                        <a:pt x="19" y="96"/>
                      </a:cubicBezTo>
                      <a:cubicBezTo>
                        <a:pt x="17" y="125"/>
                        <a:pt x="21" y="140"/>
                        <a:pt x="19" y="174"/>
                      </a:cubicBezTo>
                      <a:cubicBezTo>
                        <a:pt x="17" y="208"/>
                        <a:pt x="10" y="259"/>
                        <a:pt x="7" y="300"/>
                      </a:cubicBezTo>
                      <a:cubicBezTo>
                        <a:pt x="4" y="341"/>
                        <a:pt x="2" y="372"/>
                        <a:pt x="1" y="420"/>
                      </a:cubicBezTo>
                      <a:cubicBezTo>
                        <a:pt x="0" y="468"/>
                        <a:pt x="0" y="528"/>
                        <a:pt x="1" y="588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048280" y="5857920"/>
                  <a:ext cx="371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790800" y="990720"/>
                  <a:ext cx="1638360" cy="577188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11640" y="4984920"/>
                  <a:ext cx="39060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18080" y="4941720"/>
                  <a:ext cx="4492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86160" y="5191200"/>
                  <a:ext cx="344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V="1">
                  <a:off x="4627440" y="5114880"/>
                  <a:ext cx="409680" cy="648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" name=""/>
          <p:cNvGrpSpPr/>
          <p:nvPr/>
        </p:nvGrpSpPr>
        <p:grpSpPr>
          <a:xfrm>
            <a:off x="330120" y="1666800"/>
            <a:ext cx="8775720" cy="4109760"/>
            <a:chOff x="330120" y="1666800"/>
            <a:chExt cx="8775720" cy="4109760"/>
          </a:xfrm>
        </p:grpSpPr>
        <p:sp>
          <p:nvSpPr>
            <p:cNvPr id="111" name=""/>
            <p:cNvSpPr/>
            <p:nvPr/>
          </p:nvSpPr>
          <p:spPr>
            <a:xfrm>
              <a:off x="3009960" y="1719000"/>
              <a:ext cx="476280" cy="37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30120" y="1666800"/>
              <a:ext cx="8775720" cy="4109760"/>
              <a:chOff x="330120" y="1666800"/>
              <a:chExt cx="8775720" cy="410976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30120" y="1680840"/>
                <a:ext cx="2698920" cy="3753000"/>
                <a:chOff x="330120" y="1680840"/>
                <a:chExt cx="2698920" cy="37530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933480" y="2133360"/>
                  <a:ext cx="476280" cy="32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968480" y="1680840"/>
                  <a:ext cx="476280" cy="375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30120" y="4259160"/>
                  <a:ext cx="660600" cy="1155600"/>
                </a:xfrm>
                <a:custGeom>
                  <a:avLst/>
                  <a:gdLst/>
                  <a:ahLst/>
                  <a:rect l="l" t="t" r="r" b="b"/>
                  <a:pathLst>
                    <a:path w="416" h="728">
                      <a:moveTo>
                        <a:pt x="196" y="0"/>
                      </a:moveTo>
                      <a:lnTo>
                        <a:pt x="220" y="376"/>
                      </a:lnTo>
                      <a:lnTo>
                        <a:pt x="0" y="376"/>
                      </a:lnTo>
                      <a:lnTo>
                        <a:pt x="8" y="728"/>
                      </a:lnTo>
                      <a:lnTo>
                        <a:pt x="220" y="724"/>
                      </a:lnTo>
                      <a:lnTo>
                        <a:pt x="416" y="724"/>
                      </a:lnTo>
                      <a:lnTo>
                        <a:pt x="416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380960" y="4389120"/>
                  <a:ext cx="628920" cy="1032120"/>
                </a:xfrm>
                <a:custGeom>
                  <a:avLst/>
                  <a:gdLst/>
                  <a:ahLst/>
                  <a:rect l="l" t="t" r="r" b="b"/>
                  <a:pathLst>
                    <a:path w="396" h="650">
                      <a:moveTo>
                        <a:pt x="222" y="6"/>
                      </a:moveTo>
                      <a:lnTo>
                        <a:pt x="218" y="66"/>
                      </a:lnTo>
                      <a:lnTo>
                        <a:pt x="234" y="354"/>
                      </a:lnTo>
                      <a:lnTo>
                        <a:pt x="0" y="360"/>
                      </a:lnTo>
                      <a:lnTo>
                        <a:pt x="6" y="650"/>
                      </a:lnTo>
                      <a:lnTo>
                        <a:pt x="390" y="650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422440" y="4404960"/>
                  <a:ext cx="358920" cy="552600"/>
                </a:xfrm>
                <a:custGeom>
                  <a:avLst/>
                  <a:gdLst/>
                  <a:ahLst/>
                  <a:rect l="l" t="t" r="r" b="b"/>
                  <a:pathLst>
                    <a:path w="192" h="344">
                      <a:moveTo>
                        <a:pt x="168" y="0"/>
                      </a:moveTo>
                      <a:lnTo>
                        <a:pt x="192" y="292"/>
                      </a:lnTo>
                      <a:lnTo>
                        <a:pt x="192" y="344"/>
                      </a:lnTo>
                      <a:lnTo>
                        <a:pt x="8" y="34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409760" y="1703160"/>
                  <a:ext cx="561960" cy="258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62240" y="4198680"/>
                  <a:ext cx="352440" cy="628560"/>
                </a:xfrm>
                <a:custGeom>
                  <a:avLst/>
                  <a:gdLst/>
                  <a:ahLst/>
                  <a:rect l="l" t="t" r="r" b="b"/>
                  <a:pathLst>
                    <a:path w="222" h="396">
                      <a:moveTo>
                        <a:pt x="0" y="396"/>
                      </a:moveTo>
                      <a:lnTo>
                        <a:pt x="222" y="396"/>
                      </a:lnTo>
                      <a:lnTo>
                        <a:pt x="192" y="138"/>
                      </a:lnTo>
                      <a:lnTo>
                        <a:pt x="180" y="0"/>
                      </a:lnTo>
                      <a:lnTo>
                        <a:pt x="6" y="0"/>
                      </a:lnTo>
                      <a:lnTo>
                        <a:pt x="6" y="36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419200" y="1693800"/>
                  <a:ext cx="609840" cy="27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710320" y="1666800"/>
                <a:ext cx="3395520" cy="4109760"/>
                <a:chOff x="5710320" y="1666800"/>
                <a:chExt cx="3395520" cy="41097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710320" y="1723680"/>
                  <a:ext cx="515880" cy="36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777000" y="1726920"/>
                  <a:ext cx="515880" cy="368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818480" y="1736640"/>
                  <a:ext cx="515880" cy="368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210440" y="4240080"/>
                  <a:ext cx="647640" cy="1206360"/>
                </a:xfrm>
                <a:custGeom>
                  <a:avLst/>
                  <a:gdLst/>
                  <a:ahLst/>
                  <a:rect l="l" t="t" r="r" b="b"/>
                  <a:pathLst>
                    <a:path w="408" h="760">
                      <a:moveTo>
                        <a:pt x="226" y="0"/>
                      </a:moveTo>
                      <a:lnTo>
                        <a:pt x="218" y="344"/>
                      </a:lnTo>
                      <a:lnTo>
                        <a:pt x="406" y="344"/>
                      </a:lnTo>
                      <a:lnTo>
                        <a:pt x="408" y="484"/>
                      </a:lnTo>
                      <a:lnTo>
                        <a:pt x="168" y="484"/>
                      </a:lnTo>
                      <a:lnTo>
                        <a:pt x="182" y="148"/>
                      </a:lnTo>
                      <a:lnTo>
                        <a:pt x="190" y="80"/>
                      </a:lnTo>
                      <a:lnTo>
                        <a:pt x="2" y="80"/>
                      </a:lnTo>
                      <a:lnTo>
                        <a:pt x="0" y="758"/>
                      </a:lnTo>
                      <a:lnTo>
                        <a:pt x="406" y="760"/>
                      </a:lnTo>
                      <a:lnTo>
                        <a:pt x="386" y="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185320" y="4252680"/>
                  <a:ext cx="660240" cy="1523880"/>
                </a:xfrm>
                <a:custGeom>
                  <a:avLst/>
                  <a:gdLst/>
                  <a:ahLst/>
                  <a:rect l="l" t="t" r="r" b="b"/>
                  <a:pathLst>
                    <a:path w="416" h="960">
                      <a:moveTo>
                        <a:pt x="240" y="368"/>
                      </a:moveTo>
                      <a:lnTo>
                        <a:pt x="256" y="0"/>
                      </a:lnTo>
                      <a:lnTo>
                        <a:pt x="0" y="0"/>
                      </a:lnTo>
                      <a:lnTo>
                        <a:pt x="10" y="958"/>
                      </a:lnTo>
                      <a:lnTo>
                        <a:pt x="416" y="960"/>
                      </a:lnTo>
                      <a:lnTo>
                        <a:pt x="416" y="368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168960" y="4259160"/>
                  <a:ext cx="676440" cy="1203120"/>
                </a:xfrm>
                <a:custGeom>
                  <a:avLst/>
                  <a:gdLst/>
                  <a:ahLst/>
                  <a:rect l="l" t="t" r="r" b="b"/>
                  <a:pathLst>
                    <a:path w="426" h="758">
                      <a:moveTo>
                        <a:pt x="226" y="0"/>
                      </a:moveTo>
                      <a:lnTo>
                        <a:pt x="206" y="136"/>
                      </a:lnTo>
                      <a:lnTo>
                        <a:pt x="178" y="452"/>
                      </a:lnTo>
                      <a:lnTo>
                        <a:pt x="426" y="448"/>
                      </a:lnTo>
                      <a:lnTo>
                        <a:pt x="374" y="736"/>
                      </a:lnTo>
                      <a:lnTo>
                        <a:pt x="0" y="758"/>
                      </a:lnTo>
                      <a:lnTo>
                        <a:pt x="390" y="756"/>
                      </a:lnTo>
                      <a:lnTo>
                        <a:pt x="386" y="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270920" y="1904760"/>
                  <a:ext cx="549000" cy="23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81560" y="1666800"/>
                  <a:ext cx="29242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296200" y="1904760"/>
                  <a:ext cx="523800" cy="23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2" name=""/>
          <p:cNvSpPr/>
          <p:nvPr/>
        </p:nvSpPr>
        <p:spPr>
          <a:xfrm flipH="1" flipV="1">
            <a:off x="741240" y="4766760"/>
            <a:ext cx="13176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781280" y="4766760"/>
            <a:ext cx="13176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820960" y="4766760"/>
            <a:ext cx="13176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294600" y="4766760"/>
            <a:ext cx="13176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334280" y="4766760"/>
            <a:ext cx="13176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373960" y="4766760"/>
            <a:ext cx="13176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2360" y="5049720"/>
            <a:ext cx="67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0400" y="5049720"/>
            <a:ext cx="5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5049720"/>
            <a:ext cx="6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P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02200" y="5049720"/>
            <a:ext cx="6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P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25040" y="5049720"/>
            <a:ext cx="5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77960" y="5049720"/>
            <a:ext cx="6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-1693080" y="3017880"/>
            <a:ext cx="5529240" cy="2908440"/>
            <a:chOff x="-1693080" y="3017880"/>
            <a:chExt cx="5529240" cy="2908440"/>
          </a:xfrm>
        </p:grpSpPr>
        <p:sp>
          <p:nvSpPr>
            <p:cNvPr id="145" name=""/>
            <p:cNvSpPr/>
            <p:nvPr/>
          </p:nvSpPr>
          <p:spPr>
            <a:xfrm>
              <a:off x="-1693080" y="3017880"/>
              <a:ext cx="5510160" cy="110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4964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496472"/>
                </a:path>
              </a:pathLst>
            </a:custGeom>
            <a:noFill/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1674000" y="4277520"/>
              <a:ext cx="5510160" cy="110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714" y="734"/>
                  </a:moveTo>
                  <a:arcTo wR="10800" hR="10800" stAng="-4125096" swAng="32215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714" y="734"/>
                  </a:moveTo>
                  <a:arcTo wR="10800" hR="10800" stAng="-4125096" swAng="3221568"/>
                </a:path>
              </a:pathLst>
            </a:custGeom>
            <a:noFill/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1678320" y="4821120"/>
              <a:ext cx="5509440" cy="110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67" y="3296"/>
                  </a:moveTo>
                  <a:arcTo wR="10800" hR="10800" stAng="-2640708" swAng="17371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67" y="3296"/>
                  </a:moveTo>
                  <a:arcTo wR="10800" hR="10800" stAng="-2640708" swAng="1737179"/>
                </a:path>
              </a:pathLst>
            </a:custGeom>
            <a:noFill/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31680" y="3011760"/>
            <a:ext cx="5529240" cy="2906280"/>
            <a:chOff x="5431680" y="3011760"/>
            <a:chExt cx="5529240" cy="2906280"/>
          </a:xfrm>
        </p:grpSpPr>
        <p:sp>
          <p:nvSpPr>
            <p:cNvPr id="149" name=""/>
            <p:cNvSpPr/>
            <p:nvPr/>
          </p:nvSpPr>
          <p:spPr>
            <a:xfrm flipH="1">
              <a:off x="5431680" y="3011760"/>
              <a:ext cx="5510160" cy="110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75" y="3409"/>
                  </a:moveTo>
                  <a:arcTo wR="10800" hR="10800" stAng="-2591198" swAng="16876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75" y="3409"/>
                  </a:moveTo>
                  <a:arcTo wR="10800" hR="10800" stAng="-2591198" swAng="1687669"/>
                </a:path>
              </a:pathLst>
            </a:custGeom>
            <a:noFill/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50760" y="4269240"/>
              <a:ext cx="5510160" cy="110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60" y="833"/>
                  </a:moveTo>
                  <a:arcTo wR="10800" hR="10800" stAng="-4040710" swAng="3137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60" y="833"/>
                  </a:moveTo>
                  <a:arcTo wR="10800" hR="10800" stAng="-4040710" swAng="3137182"/>
                </a:path>
              </a:pathLst>
            </a:custGeom>
            <a:noFill/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445360" y="4813200"/>
              <a:ext cx="550980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08" y="16"/>
                  </a:moveTo>
                  <a:arcTo wR="10800" hR="10800" stAng="-5588445" swAng="46849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08" y="16"/>
                  </a:moveTo>
                  <a:arcTo wR="10800" hR="10800" stAng="-5588445" swAng="4684916"/>
                </a:path>
              </a:pathLst>
            </a:custGeom>
            <a:noFill/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dd65"/>
                </a:solidFill>
                <a:latin typeface="Arial"/>
              </a:rPr>
              <a:t>Methods: Multi-Path CPR</a:t>
            </a:r>
            <a:endParaRPr b="1" lang="en-US" sz="3000" spc="-1" strike="noStrike">
              <a:solidFill>
                <a:srgbClr val="f1dd65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6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680" y="3780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1dd65"/>
                </a:solidFill>
                <a:latin typeface="Arial"/>
              </a:rPr>
              <a:t>rotating multi-path CPR (rmpCPR)</a:t>
            </a:r>
            <a:endParaRPr b="1" lang="en-US" sz="2600" spc="-1" strike="noStrike">
              <a:solidFill>
                <a:srgbClr val="f1dd65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1360" y="190440"/>
            <a:ext cx="1828800" cy="6477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530520" y="847800"/>
            <a:ext cx="1594080" cy="5643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197320" y="852480"/>
            <a:ext cx="1543320" cy="5878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449520" y="64612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thin-slab M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80120" y="6461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C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rcRect l="7701" t="61984" r="42232" b="1346"/>
          <a:stretch/>
        </p:blipFill>
        <p:spPr>
          <a:xfrm>
            <a:off x="3414600" y="2125800"/>
            <a:ext cx="1449360" cy="40464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grpSp>
        <p:nvGrpSpPr>
          <p:cNvPr id="160" name=""/>
          <p:cNvGrpSpPr/>
          <p:nvPr/>
        </p:nvGrpSpPr>
        <p:grpSpPr>
          <a:xfrm>
            <a:off x="2131920" y="2119320"/>
            <a:ext cx="1233360" cy="4567320"/>
            <a:chOff x="2131920" y="2119320"/>
            <a:chExt cx="1233360" cy="456732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rcRect l="27999" t="4410" r="28469" b="3000"/>
            <a:stretch/>
          </p:blipFill>
          <p:spPr>
            <a:xfrm>
              <a:off x="2131920" y="2119320"/>
              <a:ext cx="1174680" cy="2498760"/>
            </a:xfrm>
            <a:prstGeom prst="rect">
              <a:avLst/>
            </a:prstGeom>
            <a:ln w="9360">
              <a:solidFill>
                <a:srgbClr val="00ff00"/>
              </a:solidFill>
              <a:miter/>
            </a:ln>
          </p:spPr>
        </p:pic>
        <p:pic>
          <p:nvPicPr>
            <p:cNvPr id="162" name="" descr=""/>
            <p:cNvPicPr/>
            <p:nvPr/>
          </p:nvPicPr>
          <p:blipFill>
            <a:blip r:embed="rId6"/>
            <a:srcRect l="28473" t="2940" r="28999" b="2414"/>
            <a:stretch/>
          </p:blipFill>
          <p:spPr>
            <a:xfrm>
              <a:off x="2217600" y="4132440"/>
              <a:ext cx="1147680" cy="2554200"/>
            </a:xfrm>
            <a:prstGeom prst="rect">
              <a:avLst/>
            </a:prstGeom>
            <a:ln w="9360">
              <a:solidFill>
                <a:srgbClr val="00ff00"/>
              </a:solidFill>
              <a:miter/>
            </a:ln>
          </p:spPr>
        </p:pic>
      </p:grpSp>
      <p:pic>
        <p:nvPicPr>
          <p:cNvPr id="163" name="" descr=""/>
          <p:cNvPicPr/>
          <p:nvPr/>
        </p:nvPicPr>
        <p:blipFill>
          <a:blip r:embed="rId7"/>
          <a:srcRect l="10278" t="0" r="11720" b="0"/>
          <a:stretch/>
        </p:blipFill>
        <p:spPr>
          <a:xfrm>
            <a:off x="6740640" y="820800"/>
            <a:ext cx="2144520" cy="27493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8"/>
          <a:srcRect l="14489" t="6103" r="7541" b="67191"/>
          <a:stretch/>
        </p:blipFill>
        <p:spPr>
          <a:xfrm>
            <a:off x="4627440" y="820800"/>
            <a:ext cx="2102040" cy="27432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7375320" y="6299280"/>
            <a:ext cx="17658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ffff"/>
                </a:solidFill>
                <a:latin typeface="Arial"/>
              </a:rPr>
              <a:t>D. Fleischman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ffff"/>
                </a:solidFill>
                <a:latin typeface="Arial"/>
              </a:rPr>
              <a:t>RSNA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15:51:21Z</dcterms:created>
  <dc:creator>D. Fleischmann</dc:creator>
  <dc:description/>
  <dc:language>en-US</dc:language>
  <cp:lastModifiedBy>D Fleischmann</cp:lastModifiedBy>
  <dcterms:modified xsi:type="dcterms:W3CDTF">2004-03-15T20:10:14Z</dcterms:modified>
  <cp:revision>195</cp:revision>
  <dc:subject/>
  <dc:title>CT Angiographie mit Multi-Detektor Spiral-CT</dc:title>
</cp:coreProperties>
</file>