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D52-CC3C-405F-A590-30AACECA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834-5D2B-4208-BB5B-91FACF25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72C-DB8C-43E2-B19C-7E0D2EC5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90B-DC2D-458C-AF69-D45E7269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8B9-C9FC-4903-A1EE-71C5F435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765-3797-42A5-94B9-3EF4A74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E16-1807-47B7-A830-CB56BD26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125-E7B1-4EB5-8009-855B443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6EB-B90F-480F-946D-B1C1292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772-5483-40FA-9B9D-671BE79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8C6-9EF2-4FE6-9B6B-64C9E13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306-58F1-430F-9A62-593E9CA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450-CD97-4E29-9AC9-96F183481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Volumetric Flow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fan Ma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6440" y="34920"/>
            <a:ext cx="889344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6440" y="33480"/>
            <a:ext cx="88934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6440" y="33480"/>
            <a:ext cx="88934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Volumetric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diting of Volumetric F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Clustering of the F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21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607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84720" y="692280"/>
            <a:ext cx="1942920" cy="431640"/>
          </a:xfrm>
          <a:prstGeom prst="wedgeRoundRectCallout">
            <a:avLst>
              <a:gd name="adj1" fmla="val 84314"/>
              <a:gd name="adj2" fmla="val 15074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nteractor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341360"/>
            <a:ext cx="1942920" cy="432000"/>
          </a:xfrm>
          <a:prstGeom prst="wedgeRoundRectCallout">
            <a:avLst>
              <a:gd name="adj1" fmla="val 71893"/>
              <a:gd name="adj2" fmla="val -2203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nderer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581360"/>
            <a:ext cx="2016000" cy="935280"/>
          </a:xfrm>
          <a:prstGeom prst="wedgeRoundRectCallout">
            <a:avLst>
              <a:gd name="adj1" fmla="val 41731"/>
              <a:gd name="adj2" fmla="val 60865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ptical Flow Management Contro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5084640"/>
            <a:ext cx="2304720" cy="432000"/>
          </a:xfrm>
          <a:prstGeom prst="wedgeRoundRectCallout">
            <a:avLst>
              <a:gd name="adj1" fmla="val -93527"/>
              <a:gd name="adj2" fmla="val 138236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ptical Flow S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5734080"/>
            <a:ext cx="2736720" cy="431640"/>
          </a:xfrm>
          <a:prstGeom prst="wedgeRoundRectCallout">
            <a:avLst>
              <a:gd name="adj1" fmla="val -124129"/>
              <a:gd name="adj2" fmla="val 31615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aussian Sigma S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836640"/>
            <a:ext cx="1873440" cy="719280"/>
          </a:xfrm>
          <a:prstGeom prst="wedgeRoundRectCallout">
            <a:avLst>
              <a:gd name="adj1" fmla="val -34916"/>
              <a:gd name="adj2" fmla="val 142495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pen Datase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1871640" cy="935280"/>
          </a:xfrm>
          <a:prstGeom prst="wedgeRoundRectCallout">
            <a:avLst>
              <a:gd name="adj1" fmla="val -3606"/>
              <a:gd name="adj2" fmla="val 100935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Transfer Funct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4149720"/>
            <a:ext cx="1584360" cy="720720"/>
          </a:xfrm>
          <a:prstGeom prst="wedgeRoundRectCallout">
            <a:avLst>
              <a:gd name="adj1" fmla="val -88074"/>
              <a:gd name="adj2" fmla="val -129513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1916280"/>
            <a:ext cx="1584360" cy="720720"/>
          </a:xfrm>
          <a:prstGeom prst="wedgeRoundRectCallout">
            <a:avLst>
              <a:gd name="adj1" fmla="val 110819"/>
              <a:gd name="adj2" fmla="val 138324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View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62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46080"/>
            <a:ext cx="88203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46080"/>
            <a:ext cx="88203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6440" y="33480"/>
            <a:ext cx="88934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6440" y="33480"/>
            <a:ext cx="88934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5:35:58Z</dcterms:created>
  <dc:creator>Stefan Marek</dc:creator>
  <dc:description/>
  <dc:language>en-US</dc:language>
  <cp:lastModifiedBy>Stefan Marek</cp:lastModifiedBy>
  <dcterms:modified xsi:type="dcterms:W3CDTF">2006-10-24T15:33:09Z</dcterms:modified>
  <cp:revision>27</cp:revision>
  <dc:subject/>
  <dc:title>Folie 1</dc:title>
</cp:coreProperties>
</file>