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7088400"/>
            <a:ext cx="360" cy="155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696B-EE50-4AE5-9946-5EC81F900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1B3C-F574-47CE-95B6-08DCFC3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3B7D-8CBC-49A6-8953-8DF5BDA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F7B2-DE44-4388-B2B5-2E972AFC4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9912-71F3-4010-B574-4638967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2A00-1C72-4839-B2E7-934B1414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6DC6-79CE-451D-8F49-3C6A7B8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843F-C5B6-4033-BBE7-28632F55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41F5-39CD-478C-8E2D-68C1B11D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F335-DBF4-4B61-A73A-059FA00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8347-9CCA-478A-BB6C-73F560C5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40DB-2DA3-4673-9817-066852A6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33258C-B3BB-4AF3-9058-77DE156E5242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BF6AC-2180-447B-B342-697B78578F4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essel-Based Transfer Fun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rej Varcho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B91BC-E743-4BE2-85C0-69385B9E2C9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1600200"/>
            <a:ext cx="403848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information when intensity value is not enough to classif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igenanalysis of the Hessian matrix to characterize the local shape of an image p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igenvalues and eigenvectors correspond to the principal curva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ssian matrix is limited to local neighborh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rger structures =&gt; multi-scale ana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429264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286240" y="2571840"/>
            <a:ext cx="1857600" cy="19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4929120" y="1571760"/>
            <a:ext cx="314316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7358040" y="4059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[Frangi, 01]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909FC-59FD-433B-A73F-79B5C504147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-space The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549440"/>
            <a:ext cx="404028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computer vision introduced by Lindber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in idea is to generate derived signals in which the fine scale information is successively suppresse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cale space is constructed by smoothing with Gaussian filters with varying standard devi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fferentiation is a convolution with derivatives of Gaussia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5072040" y="4354560"/>
            <a:ext cx="3308400" cy="858960"/>
            <a:chOff x="5072040" y="4354560"/>
            <a:chExt cx="3308400" cy="858960"/>
          </a:xfrm>
        </p:grpSpPr>
        <p:pic>
          <p:nvPicPr>
            <p:cNvPr id="60" name="Picture 4" descr=""/>
            <p:cNvPicPr/>
            <p:nvPr/>
          </p:nvPicPr>
          <p:blipFill>
            <a:blip r:embed="rId1"/>
            <a:stretch/>
          </p:blipFill>
          <p:spPr>
            <a:xfrm>
              <a:off x="5072040" y="4354560"/>
              <a:ext cx="33084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5072040" y="4354560"/>
              <a:ext cx="3308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857840" y="1512720"/>
            <a:ext cx="2355840" cy="263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5072040" y="5386320"/>
            <a:ext cx="3133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4A1DD-C061-49FF-B6A4-5F909EA46812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lassification with Hessian Eigenvalu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econd derivative of a Gaussian kernel at a scale σ generates a probe kernel that measures the contrast between the regions inside and outside the range (-σ,σ) in the direction of the deriv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786200" y="1428840"/>
            <a:ext cx="3429000" cy="233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272120" y="4232160"/>
            <a:ext cx="4800600" cy="768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220280" y="38448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bular classifier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6E9F-B6DA-4E52-B8C7-83B8F922A67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bular filte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143240" y="1500120"/>
            <a:ext cx="1468440" cy="535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838840" y="1500120"/>
            <a:ext cx="1460520" cy="535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7551720" y="1500120"/>
            <a:ext cx="1461960" cy="5376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432320" y="11430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σ=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250320" y="11430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σ=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964640" y="11430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σ=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285840" y="1500120"/>
            <a:ext cx="371484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5"/>
          <a:stretch/>
        </p:blipFill>
        <p:spPr>
          <a:xfrm>
            <a:off x="271440" y="4214880"/>
            <a:ext cx="380052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83A3A-2CC0-4080-B6A1-B8753EDD9A6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ata iss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40384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active visualization of muti-scale filtered dat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uge amount of volumes – separate volume per sca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polation between scal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r interface for transfer fun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isualization of structures (vessels, nodules) according to their siz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486400" y="496800"/>
            <a:ext cx="1643040" cy="6289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vbtf\b_y_g_x_r_z_white.png"/>
          <p:cNvPicPr/>
          <p:nvPr/>
        </p:nvPicPr>
        <p:blipFill>
          <a:blip r:embed="rId2"/>
          <a:stretch/>
        </p:blipFill>
        <p:spPr>
          <a:xfrm>
            <a:off x="7315200" y="457200"/>
            <a:ext cx="1739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cess-based Streaming of Volumetric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slice_depict.bmp"/>
          <p:cNvPicPr/>
          <p:nvPr/>
        </p:nvPicPr>
        <p:blipFill>
          <a:blip r:embed="rId1"/>
          <a:stretch/>
        </p:blipFill>
        <p:spPr>
          <a:xfrm>
            <a:off x="2514600" y="1371600"/>
            <a:ext cx="422928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998280" y="4278240"/>
            <a:ext cx="226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ock based stream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495760" y="4278240"/>
            <a:ext cx="21909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lice based stream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Oval 8"/>
          <p:cNvSpPr/>
          <p:nvPr/>
        </p:nvSpPr>
        <p:spPr>
          <a:xfrm>
            <a:off x="1676520" y="487692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Oval 9"/>
          <p:cNvSpPr/>
          <p:nvPr/>
        </p:nvSpPr>
        <p:spPr>
          <a:xfrm>
            <a:off x="1676520" y="54864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2895480" y="4876920"/>
            <a:ext cx="6858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2895480" y="5486400"/>
            <a:ext cx="6858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3" name="Straight Arrow Connector 12"/>
          <p:cNvCxnSpPr>
            <a:stCxn id="89" idx="6"/>
            <a:endCxn id="91" idx="2"/>
          </p:cNvCxnSpPr>
          <p:nvPr/>
        </p:nvCxnSpPr>
        <p:spPr>
          <a:xfrm>
            <a:off x="2361960" y="5105520"/>
            <a:ext cx="53388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4" name="Straight Arrow Connector 13"/>
          <p:cNvCxnSpPr>
            <a:stCxn id="90" idx="6"/>
            <a:endCxn id="92" idx="2"/>
          </p:cNvCxnSpPr>
          <p:nvPr/>
        </p:nvCxnSpPr>
        <p:spPr>
          <a:xfrm>
            <a:off x="2361960" y="5715000"/>
            <a:ext cx="53388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95" name="Oval 14"/>
          <p:cNvSpPr/>
          <p:nvPr/>
        </p:nvSpPr>
        <p:spPr>
          <a:xfrm>
            <a:off x="457200" y="54864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6" name="Straight Arrow Connector 15"/>
          <p:cNvCxnSpPr>
            <a:stCxn id="95" idx="7"/>
            <a:endCxn id="89" idx="2"/>
          </p:cNvCxnSpPr>
          <p:nvPr/>
        </p:nvCxnSpPr>
        <p:spPr>
          <a:xfrm flipV="1">
            <a:off x="1042920" y="5104800"/>
            <a:ext cx="634320" cy="44820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>
            <a:stCxn id="95" idx="6"/>
            <a:endCxn id="90" idx="2"/>
          </p:cNvCxnSpPr>
          <p:nvPr/>
        </p:nvCxnSpPr>
        <p:spPr>
          <a:xfrm>
            <a:off x="1143000" y="5715000"/>
            <a:ext cx="53424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98" name="Oval 17"/>
          <p:cNvSpPr/>
          <p:nvPr/>
        </p:nvSpPr>
        <p:spPr>
          <a:xfrm>
            <a:off x="1676520" y="61722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9" name="Straight Arrow Connector 18"/>
          <p:cNvCxnSpPr>
            <a:stCxn id="95" idx="5"/>
            <a:endCxn id="98" idx="2"/>
          </p:cNvCxnSpPr>
          <p:nvPr/>
        </p:nvCxnSpPr>
        <p:spPr>
          <a:xfrm>
            <a:off x="1042920" y="5876640"/>
            <a:ext cx="634320" cy="524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00" name="Oval 19"/>
          <p:cNvSpPr/>
          <p:nvPr/>
        </p:nvSpPr>
        <p:spPr>
          <a:xfrm>
            <a:off x="2895480" y="6172200"/>
            <a:ext cx="6858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1" name="Straight Arrow Connector 20"/>
          <p:cNvCxnSpPr>
            <a:stCxn id="98" idx="6"/>
            <a:endCxn id="100" idx="2"/>
          </p:cNvCxnSpPr>
          <p:nvPr/>
        </p:nvCxnSpPr>
        <p:spPr>
          <a:xfrm>
            <a:off x="2361960" y="6400800"/>
            <a:ext cx="53388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02" name="Oval 21"/>
          <p:cNvSpPr/>
          <p:nvPr/>
        </p:nvSpPr>
        <p:spPr>
          <a:xfrm>
            <a:off x="4114800" y="487692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3" name="Straight Arrow Connector 22"/>
          <p:cNvCxnSpPr>
            <a:stCxn id="91" idx="6"/>
            <a:endCxn id="102" idx="2"/>
          </p:cNvCxnSpPr>
          <p:nvPr/>
        </p:nvCxnSpPr>
        <p:spPr>
          <a:xfrm>
            <a:off x="3581280" y="5105520"/>
            <a:ext cx="53424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04" name="Oval 23"/>
          <p:cNvSpPr/>
          <p:nvPr/>
        </p:nvSpPr>
        <p:spPr>
          <a:xfrm>
            <a:off x="4114800" y="54864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5" name="Straight Arrow Connector 24"/>
          <p:cNvCxnSpPr>
            <a:stCxn id="92" idx="6"/>
            <a:endCxn id="104" idx="2"/>
          </p:cNvCxnSpPr>
          <p:nvPr/>
        </p:nvCxnSpPr>
        <p:spPr>
          <a:xfrm>
            <a:off x="3581280" y="5715000"/>
            <a:ext cx="53424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06" name="Oval 25"/>
          <p:cNvSpPr/>
          <p:nvPr/>
        </p:nvSpPr>
        <p:spPr>
          <a:xfrm>
            <a:off x="4114800" y="61722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7" name="Straight Arrow Connector 26"/>
          <p:cNvCxnSpPr>
            <a:stCxn id="100" idx="6"/>
            <a:endCxn id="106" idx="2"/>
          </p:cNvCxnSpPr>
          <p:nvPr/>
        </p:nvCxnSpPr>
        <p:spPr>
          <a:xfrm>
            <a:off x="3581280" y="6400800"/>
            <a:ext cx="53424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108" name="Straight Arrow Connector 28"/>
          <p:cNvCxnSpPr>
            <a:stCxn id="102" idx="6"/>
            <a:endCxn id="109" idx="1"/>
          </p:cNvCxnSpPr>
          <p:nvPr/>
        </p:nvCxnSpPr>
        <p:spPr>
          <a:xfrm>
            <a:off x="4800240" y="5105160"/>
            <a:ext cx="1243800" cy="44820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09" name="Oval 30"/>
          <p:cNvSpPr/>
          <p:nvPr/>
        </p:nvSpPr>
        <p:spPr>
          <a:xfrm>
            <a:off x="5943600" y="54864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" name="Straight Arrow Connector 31"/>
          <p:cNvCxnSpPr>
            <a:stCxn id="106" idx="6"/>
            <a:endCxn id="109" idx="3"/>
          </p:cNvCxnSpPr>
          <p:nvPr/>
        </p:nvCxnSpPr>
        <p:spPr>
          <a:xfrm flipV="1">
            <a:off x="4800240" y="5876640"/>
            <a:ext cx="1243800" cy="524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111" name="Oval 33"/>
          <p:cNvSpPr/>
          <p:nvPr/>
        </p:nvSpPr>
        <p:spPr>
          <a:xfrm>
            <a:off x="7467480" y="5486400"/>
            <a:ext cx="685800" cy="4572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2" name="Straight Arrow Connector 34"/>
          <p:cNvCxnSpPr>
            <a:stCxn id="109" idx="6"/>
            <a:endCxn id="111" idx="2"/>
          </p:cNvCxnSpPr>
          <p:nvPr/>
        </p:nvCxnSpPr>
        <p:spPr>
          <a:xfrm>
            <a:off x="6629400" y="5715000"/>
            <a:ext cx="83880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113" name="Straight Arrow Connector 36"/>
          <p:cNvCxnSpPr>
            <a:stCxn id="104" idx="6"/>
            <a:endCxn id="109" idx="2"/>
          </p:cNvCxnSpPr>
          <p:nvPr/>
        </p:nvCxnSpPr>
        <p:spPr>
          <a:xfrm>
            <a:off x="4800240" y="5715000"/>
            <a:ext cx="1143720" cy="2160"/>
          </a:xfrm>
          <a:prstGeom prst="straightConnector1">
            <a:avLst/>
          </a:prstGeom>
          <a:ln w="9360">
            <a:solidFill>
              <a:srgbClr val="5959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2"/>
          <p:cNvSpPr/>
          <p:nvPr/>
        </p:nvSpPr>
        <p:spPr>
          <a:xfrm>
            <a:off x="6553080" y="6356520"/>
            <a:ext cx="212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40315-800F-4AE8-A2D8-9B7246235F3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j Varchola</cp:lastModifiedBy>
  <dcterms:modified xsi:type="dcterms:W3CDTF">2009-06-30T07:52:03Z</dcterms:modified>
  <cp:revision>13</cp:revision>
  <dc:subject/>
  <dc:title>Slide 1</dc:title>
</cp:coreProperties>
</file>